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DAA-5191-444A-8405-938F575A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CF1-ADF4-4E20-AF44-3506ED83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56A-E0A3-42AA-A0D3-7390BAB1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D92-217C-4723-9895-EFBDEA2E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AEB-CE9F-4204-8405-FFA83C8E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E6B-6265-4D10-ACBF-E93526E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625-0F4C-40F7-BF16-9A7CF93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E24-2865-443F-B87F-23189D13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708-32C5-4FA2-8D51-928F9460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CD2-4AC9-4810-ABEF-4AF7062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618-25A9-4A00-B3D0-3AA542C0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C63-13E7-4F0C-92BC-F8295AF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AA7-52D3-41E2-A769-67493726C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To Your S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nda Morgan, MS, OTR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ly Landry, OT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od week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rd and ask your neighb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ake in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on your sheet~ Can you get all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yes~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236233"/>
          <p:cNvPicPr/>
          <p:nvPr/>
        </p:nvPicPr>
        <p:blipFill>
          <a:blip r:embed="rId1"/>
          <a:stretch/>
        </p:blipFill>
        <p:spPr>
          <a:xfrm>
            <a:off x="1371600" y="1905120"/>
            <a:ext cx="67816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e~Ol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36786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~Gust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54729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s~Aud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428651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ch~ Tact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G00427_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rioceptive (Muscle Inpu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336367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tibular (move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283934"/>
          <p:cNvPicPr/>
          <p:nvPr/>
        </p:nvPicPr>
        <p:blipFill>
          <a:blip r:embed="rId1"/>
          <a:stretch/>
        </p:blipFill>
        <p:spPr>
          <a:xfrm>
            <a:off x="1371600" y="1981080"/>
            <a:ext cx="6553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34:47Z</dcterms:created>
  <dc:creator>otusers</dc:creator>
  <dc:description/>
  <dc:language>en-US</dc:language>
  <cp:lastModifiedBy>otusers</cp:lastModifiedBy>
  <dcterms:modified xsi:type="dcterms:W3CDTF">2010-02-15T16:06:27Z</dcterms:modified>
  <cp:revision>7</cp:revision>
  <dc:subject/>
  <dc:title>Come To Your Senses</dc:title>
</cp:coreProperties>
</file>